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96B-232D-4BD4-A1B9-64599D70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8BA-D751-407A-A433-A099AF0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578-59F4-4952-A278-B66946B4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677-F661-468E-94EA-DDACE3E8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249-A959-47BF-824B-B2CD292A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13B-B413-45C7-A411-7272C647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FC4-B861-4F9B-9E4F-8EDED617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E97-9C54-4036-98B6-2B8FCA7B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C4F-534B-4724-B553-68A7D30A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DDA-DF62-4427-87A4-0BB76791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CC0-695B-454F-AAFE-5F56C8F6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5EB-259F-451A-A355-CF097FEF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2AA0-AFFD-4090-BBF0-4F9FE05CC40F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143000"/>
            <a:ext cx="8458200" cy="3994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РАВНЕНИЕ </a:t>
            </a:r>
            <a:r>
              <a:rPr b="1" lang="es-ES_tradnl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ВОЙСТВ РАЗЛИЧНЫХ БАЗАФИКАН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Лаборатория кожевенного производ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CROMOGENIA UNITS, S.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арселона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спания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59280" y="4000680"/>
            <a:ext cx="400680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Рис. 16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 Влияние температуры на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 MgO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(B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1447920"/>
          <a:ext cx="83059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3059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ис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18.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Влияние температуры на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LENATOL 88 Ba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447920"/>
          <a:ext cx="83059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3059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ис. 19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Влияние температуры на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lenatol HB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90480" y="1979640"/>
          <a:ext cx="7761240" cy="43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979640"/>
                    <a:ext cx="776124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Рис. 17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 Влияние температуры на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 PLENATOL SRB-2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90480" y="1371600"/>
          <a:ext cx="776304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371600"/>
                    <a:ext cx="77630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2514600"/>
            <a:ext cx="7323120" cy="4299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тн. веса голья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воённого на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3,2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мм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ИКЕЛЕВАНИЕ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УБ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0%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25ºC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6º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%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0,8%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ная кислота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.............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ащение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а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.......pH=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ром. соль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33Sch.........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ащение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а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АЗИФИЦИРУЮЩИЙ ПРОДУКТ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......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ращение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8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ча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4480" y="1557360"/>
            <a:ext cx="86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НДАРТНЫЙ ПРОЦЕСС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ЛЯ ВСЕХ ОПЫ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9280" y="19080"/>
            <a:ext cx="877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УЛУЧШЕНИЕ ФИКСАЦИИ </a:t>
            </a:r>
            <a:r>
              <a:rPr b="1" lang="es-ES_tradnl" sz="3200" spc="-1" strike="noStrike" u="sng">
                <a:solidFill>
                  <a:srgbClr val="0000ff"/>
                </a:solidFill>
                <a:uFillTx/>
                <a:latin typeface="Times New Roman"/>
              </a:rPr>
              <a:t>(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ПОВЫШ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СНОВНОСТИ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БАЗИФИЦИРУЮЩИЙ</a:t>
            </a:r>
            <a:br>
              <a:rPr sz="4400"/>
            </a:b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ПРОДУК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СИД МАГНИЯ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(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СИД МАГНИЯ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LENATOL 88 Bas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LENATOL H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LENATOL SRB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3360" y="304920"/>
            <a:ext cx="830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ФАКТОРЫ, ВЛИЯЮЩИЕ НА РЕАКЦИОНН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ПОСОБ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268280"/>
            <a:ext cx="8462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РАЗМЕР  ЧАСТИЦ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ольше размер – меньше реакционная способ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ЛОЩАДЬ ПОВЕРХ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ольше площадь – выше реакционная способ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КРУПНЫЙ РАЗМЕР ЧАСТИЦ И МАЛАЯ ПЛОЩАДЬ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ОВЕРХНОСТИ = МЕДЛЕННАЯ РЕАКТИВ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2060640"/>
            <a:ext cx="1905120" cy="1066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2057400"/>
            <a:ext cx="7596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2133720"/>
            <a:ext cx="7632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21337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213372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286000"/>
            <a:ext cx="7632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2666880"/>
            <a:ext cx="22860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2590920"/>
            <a:ext cx="15264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2666880"/>
            <a:ext cx="15228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590920"/>
            <a:ext cx="30492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2819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20500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2362320"/>
            <a:ext cx="22860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2286000"/>
            <a:ext cx="15264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2362320"/>
            <a:ext cx="15228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62320"/>
            <a:ext cx="7596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2514600"/>
            <a:ext cx="15228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2349360"/>
            <a:ext cx="7632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133720"/>
            <a:ext cx="15228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4343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3434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4005360"/>
            <a:ext cx="2190600" cy="1609560"/>
          </a:xfrm>
          <a:custGeom>
            <a:avLst/>
            <a:gdLst/>
            <a:ahLst/>
            <a:rect l="l" t="t" r="r" b="b"/>
            <a:pathLst>
              <a:path w="1380" h="1014">
                <a:moveTo>
                  <a:pt x="360" y="72"/>
                </a:moveTo>
                <a:cubicBezTo>
                  <a:pt x="436" y="59"/>
                  <a:pt x="491" y="55"/>
                  <a:pt x="555" y="12"/>
                </a:cubicBezTo>
                <a:cubicBezTo>
                  <a:pt x="589" y="114"/>
                  <a:pt x="617" y="87"/>
                  <a:pt x="720" y="72"/>
                </a:cubicBezTo>
                <a:cubicBezTo>
                  <a:pt x="733" y="63"/>
                  <a:pt x="804" y="0"/>
                  <a:pt x="825" y="57"/>
                </a:cubicBezTo>
                <a:cubicBezTo>
                  <a:pt x="837" y="90"/>
                  <a:pt x="815" y="127"/>
                  <a:pt x="810" y="162"/>
                </a:cubicBezTo>
                <a:cubicBezTo>
                  <a:pt x="825" y="167"/>
                  <a:pt x="839" y="177"/>
                  <a:pt x="855" y="177"/>
                </a:cubicBezTo>
                <a:cubicBezTo>
                  <a:pt x="1027" y="177"/>
                  <a:pt x="1054" y="111"/>
                  <a:pt x="990" y="207"/>
                </a:cubicBezTo>
                <a:cubicBezTo>
                  <a:pt x="995" y="227"/>
                  <a:pt x="985" y="260"/>
                  <a:pt x="1005" y="267"/>
                </a:cubicBezTo>
                <a:cubicBezTo>
                  <a:pt x="1018" y="271"/>
                  <a:pt x="1189" y="241"/>
                  <a:pt x="1215" y="237"/>
                </a:cubicBezTo>
                <a:cubicBezTo>
                  <a:pt x="1265" y="242"/>
                  <a:pt x="1317" y="238"/>
                  <a:pt x="1365" y="252"/>
                </a:cubicBezTo>
                <a:cubicBezTo>
                  <a:pt x="1380" y="256"/>
                  <a:pt x="1331" y="256"/>
                  <a:pt x="1320" y="267"/>
                </a:cubicBezTo>
                <a:cubicBezTo>
                  <a:pt x="1227" y="360"/>
                  <a:pt x="1351" y="307"/>
                  <a:pt x="1245" y="342"/>
                </a:cubicBezTo>
                <a:cubicBezTo>
                  <a:pt x="1250" y="362"/>
                  <a:pt x="1252" y="383"/>
                  <a:pt x="1260" y="402"/>
                </a:cubicBezTo>
                <a:cubicBezTo>
                  <a:pt x="1267" y="419"/>
                  <a:pt x="1294" y="429"/>
                  <a:pt x="1290" y="447"/>
                </a:cubicBezTo>
                <a:cubicBezTo>
                  <a:pt x="1286" y="465"/>
                  <a:pt x="1260" y="467"/>
                  <a:pt x="1245" y="477"/>
                </a:cubicBezTo>
                <a:cubicBezTo>
                  <a:pt x="1235" y="492"/>
                  <a:pt x="1222" y="506"/>
                  <a:pt x="1215" y="522"/>
                </a:cubicBezTo>
                <a:cubicBezTo>
                  <a:pt x="1202" y="551"/>
                  <a:pt x="1213" y="597"/>
                  <a:pt x="1185" y="612"/>
                </a:cubicBezTo>
                <a:cubicBezTo>
                  <a:pt x="1154" y="629"/>
                  <a:pt x="1115" y="602"/>
                  <a:pt x="1080" y="597"/>
                </a:cubicBezTo>
                <a:cubicBezTo>
                  <a:pt x="1075" y="647"/>
                  <a:pt x="1065" y="747"/>
                  <a:pt x="1065" y="747"/>
                </a:cubicBezTo>
                <a:cubicBezTo>
                  <a:pt x="1005" y="717"/>
                  <a:pt x="949" y="678"/>
                  <a:pt x="885" y="657"/>
                </a:cubicBezTo>
                <a:cubicBezTo>
                  <a:pt x="870" y="652"/>
                  <a:pt x="851" y="661"/>
                  <a:pt x="840" y="672"/>
                </a:cubicBezTo>
                <a:cubicBezTo>
                  <a:pt x="829" y="683"/>
                  <a:pt x="835" y="705"/>
                  <a:pt x="825" y="717"/>
                </a:cubicBezTo>
                <a:cubicBezTo>
                  <a:pt x="799" y="750"/>
                  <a:pt x="765" y="777"/>
                  <a:pt x="735" y="807"/>
                </a:cubicBezTo>
                <a:cubicBezTo>
                  <a:pt x="720" y="802"/>
                  <a:pt x="706" y="792"/>
                  <a:pt x="690" y="792"/>
                </a:cubicBezTo>
                <a:cubicBezTo>
                  <a:pt x="669" y="792"/>
                  <a:pt x="646" y="820"/>
                  <a:pt x="630" y="807"/>
                </a:cubicBezTo>
                <a:cubicBezTo>
                  <a:pt x="606" y="787"/>
                  <a:pt x="600" y="717"/>
                  <a:pt x="600" y="717"/>
                </a:cubicBezTo>
                <a:cubicBezTo>
                  <a:pt x="451" y="1014"/>
                  <a:pt x="573" y="819"/>
                  <a:pt x="540" y="672"/>
                </a:cubicBezTo>
                <a:cubicBezTo>
                  <a:pt x="535" y="648"/>
                  <a:pt x="510" y="712"/>
                  <a:pt x="495" y="732"/>
                </a:cubicBezTo>
                <a:cubicBezTo>
                  <a:pt x="490" y="687"/>
                  <a:pt x="519" y="620"/>
                  <a:pt x="480" y="597"/>
                </a:cubicBezTo>
                <a:cubicBezTo>
                  <a:pt x="449" y="578"/>
                  <a:pt x="454" y="676"/>
                  <a:pt x="420" y="687"/>
                </a:cubicBezTo>
                <a:cubicBezTo>
                  <a:pt x="390" y="697"/>
                  <a:pt x="330" y="717"/>
                  <a:pt x="330" y="717"/>
                </a:cubicBezTo>
                <a:cubicBezTo>
                  <a:pt x="293" y="827"/>
                  <a:pt x="336" y="724"/>
                  <a:pt x="285" y="612"/>
                </a:cubicBezTo>
                <a:cubicBezTo>
                  <a:pt x="278" y="598"/>
                  <a:pt x="255" y="602"/>
                  <a:pt x="240" y="597"/>
                </a:cubicBezTo>
                <a:cubicBezTo>
                  <a:pt x="153" y="727"/>
                  <a:pt x="286" y="550"/>
                  <a:pt x="195" y="537"/>
                </a:cubicBezTo>
                <a:cubicBezTo>
                  <a:pt x="164" y="533"/>
                  <a:pt x="98" y="637"/>
                  <a:pt x="75" y="672"/>
                </a:cubicBezTo>
                <a:cubicBezTo>
                  <a:pt x="70" y="587"/>
                  <a:pt x="68" y="502"/>
                  <a:pt x="60" y="417"/>
                </a:cubicBezTo>
                <a:cubicBezTo>
                  <a:pt x="58" y="401"/>
                  <a:pt x="45" y="356"/>
                  <a:pt x="45" y="372"/>
                </a:cubicBezTo>
                <a:cubicBezTo>
                  <a:pt x="45" y="407"/>
                  <a:pt x="55" y="442"/>
                  <a:pt x="60" y="477"/>
                </a:cubicBezTo>
                <a:cubicBezTo>
                  <a:pt x="75" y="457"/>
                  <a:pt x="98" y="441"/>
                  <a:pt x="105" y="417"/>
                </a:cubicBezTo>
                <a:cubicBezTo>
                  <a:pt x="124" y="349"/>
                  <a:pt x="174" y="148"/>
                  <a:pt x="135" y="207"/>
                </a:cubicBezTo>
                <a:cubicBezTo>
                  <a:pt x="105" y="252"/>
                  <a:pt x="75" y="297"/>
                  <a:pt x="45" y="342"/>
                </a:cubicBezTo>
                <a:cubicBezTo>
                  <a:pt x="40" y="297"/>
                  <a:pt x="44" y="250"/>
                  <a:pt x="30" y="207"/>
                </a:cubicBezTo>
                <a:cubicBezTo>
                  <a:pt x="25" y="192"/>
                  <a:pt x="0" y="257"/>
                  <a:pt x="15" y="252"/>
                </a:cubicBezTo>
                <a:cubicBezTo>
                  <a:pt x="42" y="243"/>
                  <a:pt x="55" y="212"/>
                  <a:pt x="75" y="192"/>
                </a:cubicBezTo>
                <a:cubicBezTo>
                  <a:pt x="90" y="197"/>
                  <a:pt x="105" y="212"/>
                  <a:pt x="120" y="207"/>
                </a:cubicBezTo>
                <a:cubicBezTo>
                  <a:pt x="154" y="196"/>
                  <a:pt x="210" y="147"/>
                  <a:pt x="210" y="147"/>
                </a:cubicBezTo>
                <a:cubicBezTo>
                  <a:pt x="301" y="177"/>
                  <a:pt x="299" y="148"/>
                  <a:pt x="360" y="72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4076640"/>
            <a:ext cx="2286000" cy="1143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243828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2362320"/>
            <a:ext cx="15264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259092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ис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Графики потенциометрической оценки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1531800"/>
          <a:ext cx="8839080" cy="53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31800"/>
                    <a:ext cx="883908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21760" y="498600"/>
            <a:ext cx="8529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0,4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азификанта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+100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л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 HCl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0,1N)..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мерять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pH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у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у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Щёлочность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г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  NaOH)=(A-B)x4/P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A=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л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 HCl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0,1N)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B=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л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 NaOH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0,1N);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P=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г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азификанта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587600"/>
          <a:ext cx="9144000" cy="474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7600"/>
                    <a:ext cx="9144000" cy="47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ис. 11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Графики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pH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зависимости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%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азификанта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1447920"/>
          <a:ext cx="8610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610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258360" y="137160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5                   36                               44ºC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Рис. 14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 Распределение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Cr2O3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 по слоям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спустя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 10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часов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219320"/>
          <a:ext cx="777096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77096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Рис. 15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 Влияние температуры на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 MgO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(A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1562040"/>
          <a:ext cx="814860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1486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07:44:18Z</dcterms:created>
  <dc:creator>cromogenia units s.a.</dc:creator>
  <dc:description/>
  <dc:language>en-US</dc:language>
  <cp:lastModifiedBy>Малякина</cp:lastModifiedBy>
  <cp:lastPrinted>2000-02-21T10:51:40Z</cp:lastPrinted>
  <dcterms:modified xsi:type="dcterms:W3CDTF">2008-07-03T10:28:29Z</dcterms:modified>
  <cp:revision>48</cp:revision>
  <dc:subject/>
  <dc:title>Fig nº 1 Capacidad curtiente del RETANAL CLE</dc:title>
</cp:coreProperties>
</file>